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0.jpeg" ContentType="image/jpeg"/>
  <Override PartName="/ppt/media/image24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wmf" ContentType="image/x-wmf"/>
  <Override PartName="/ppt/media/image36.jpeg" ContentType="image/jpeg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21.gif" ContentType="image/gif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3.gif" ContentType="image/gif"/>
  <Override PartName="/ppt/media/image41.jpeg" ContentType="image/jpeg"/>
  <Override PartName="/ppt/media/image45.jpeg" ContentType="image/jpeg"/>
  <Override PartName="/ppt/media/image3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6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8.jpeg" ContentType="image/jpeg"/>
  <Override PartName="/ppt/media/image35.gif" ContentType="image/gif"/>
  <Override PartName="/ppt/media/image5.gif" ContentType="image/gif"/>
  <Override PartName="/ppt/media/image30.jpeg" ContentType="image/jpeg"/>
  <Override PartName="/ppt/media/image7.wmf" ContentType="image/x-wmf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610E-DC86-416D-AF6C-9C6CC0CF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5159-B777-420C-BB8B-C3A199B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AEE1-79D8-470F-B2FB-5802095B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E80D-1912-40E2-ACC9-9EC6B84C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3B37-A1B3-44CE-9D27-74141282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0A26-BAD5-4A48-BCE3-2206F603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06DA-8113-48CD-ABAD-74C3407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55D-CE78-457E-A69B-B403653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89B6-F7E2-441C-874C-EE3F39F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9508-0377-4F6D-B855-8F3865D9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9B02-090F-4314-A8BF-D10328C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B125-E94B-469D-AD93-63EFA34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2E23-FD97-4796-9FCD-0E5629A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D86-5AC6-42DB-91D2-4F96D36F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560-FEC0-42E4-8B11-A8370B2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7FC5-91F5-4183-B11B-3013217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BF03-F516-4662-92ED-6D081E6A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D21D-740F-4695-82F2-AB3E2E7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EB55-7997-4EAB-BBC5-B6686028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B630-A8DF-4C53-A045-E8D77AE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5506-E05F-4937-B2C9-98DC93B1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872D-8062-4531-A0B6-F72AD3AC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1D93-FE21-4A5B-BAAC-BCFA446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D4EC-BD10-4EC8-83F8-294760E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5312-3687-484B-A73C-60817309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5C03-F41F-409F-9A29-1A09B2611909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" Target="slide1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11.xml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" Target="slide16.xm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" Target="slide11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3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22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" Target="slide5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04920" y="3048120"/>
            <a:ext cx="42670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«Чтобы быть здоровым, нужны собственные усилия постоянные и значительные, и заменить их нельзя ни чем»                 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                      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Н.М. Амосов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743200" y="579132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Автор: Жукова Ольга Витальевна учитель физической культуры МБОУСОШ №5 г.Ливны, Орловской области</a:t>
            </a:r>
            <a:endParaRPr b="0" lang="en-US" sz="1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1143000"/>
            <a:ext cx="85345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Здоровье 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и как его сохранить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03" name="Picture 12" descr="sova"/>
          <p:cNvPicPr/>
          <p:nvPr/>
        </p:nvPicPr>
        <p:blipFill>
          <a:blip r:embed="rId1"/>
          <a:stretch/>
        </p:blipFill>
        <p:spPr>
          <a:xfrm>
            <a:off x="5181480" y="2895480"/>
            <a:ext cx="29718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05" name="AutoShape 14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pic>
        <p:nvPicPr>
          <p:cNvPr id="109" name="Picture 18" descr="02"/>
          <p:cNvPicPr/>
          <p:nvPr/>
        </p:nvPicPr>
        <p:blipFill>
          <a:blip r:embed="rId3"/>
          <a:srcRect l="16937" t="0" r="0" b="0"/>
          <a:stretch/>
        </p:blipFill>
        <p:spPr>
          <a:xfrm>
            <a:off x="838080" y="4952880"/>
            <a:ext cx="14954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Закаливание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это система мероприятий, направленная на повышение устойчивости     организма к многообразным влияниям внешней среды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К основным средствам закаливания относятся естественные природные факторы: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а) солнце;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б) воздух (сон при открытой форточке или окне, физические упражнения на свежем воздухе, занятия зимними видами спорта, воздушные ванны);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в) вода (обтирание, обливание, душ, купание)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 одним из древнейших форм закаливания относятся хождение босиком по траве и снегу,  хождение в воде, купание в снегу после банных процедур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0" name="Picture 5" descr="закаливание"/>
          <p:cNvPicPr/>
          <p:nvPr/>
        </p:nvPicPr>
        <p:blipFill>
          <a:blip r:embed="rId1"/>
          <a:stretch/>
        </p:blipFill>
        <p:spPr>
          <a:xfrm>
            <a:off x="1676520" y="449568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50"/>
          <p:cNvPicPr/>
          <p:nvPr/>
        </p:nvPicPr>
        <p:blipFill>
          <a:blip r:embed="rId2"/>
          <a:srcRect l="16982" t="21056" r="15098" b="9213"/>
          <a:stretch/>
        </p:blipFill>
        <p:spPr>
          <a:xfrm>
            <a:off x="6095880" y="228600"/>
            <a:ext cx="2743200" cy="40384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5029200" y="4800600"/>
            <a:ext cx="3886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Высшая форма закаливания –                     купание в проруби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03" name="Picture 8" descr="AN090"/>
          <p:cNvPicPr/>
          <p:nvPr/>
        </p:nvPicPr>
        <p:blipFill>
          <a:blip r:embed="rId3"/>
          <a:stretch/>
        </p:blipFill>
        <p:spPr>
          <a:xfrm>
            <a:off x="6095880" y="5486400"/>
            <a:ext cx="1123920" cy="10288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05" name="AutoShape 10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06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07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урение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Garamond"/>
                <a:ea typeface="Arial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Привыкание к табаку формируется 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  <a:ea typeface="Arial"/>
              </a:rPr>
              <a:t>от нескольких недель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до 10 лет в зависимости от индивидуальности организма и интенсивности курения.                                                                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Табак – это наркотик.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У человека, привыкшему к курению, в случае резкого прекращения приёма табака наблюдается </a:t>
            </a:r>
            <a:r>
              <a:rPr b="1" lang="en-US" sz="16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«ломка»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(головные боли, колебание артериального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давления, нервозность, агрессивность). 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Курение </a:t>
            </a:r>
            <a:r>
              <a:rPr b="1" lang="en-US" sz="16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в 2 раза опаснее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для растущего организма, чем для взрослого. Смертельная доза для  подростков полпачки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Если человек начал курить в 15 лет, то продолжительность его жизни уменьшается более  чем на 8 лет. Начавшие курить до 15 лет в 5 раз чаще умирают от рака, чем те, кто стал курить позднее.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У курильщиков: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в 2 – 3 раза чаще бывают сердечно-сосудистые заболевания,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в 15 – 30 раз чаще – рак лёгких,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в 10 раз – язва желудка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Часто развивается рак губы, гортани, пищевода, нарушается зрение, слух.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1" name="Picture 5" descr="sigar"/>
          <p:cNvPicPr/>
          <p:nvPr/>
        </p:nvPicPr>
        <p:blipFill>
          <a:blip r:embed="rId1"/>
          <a:stretch/>
        </p:blipFill>
        <p:spPr>
          <a:xfrm>
            <a:off x="6705720" y="304920"/>
            <a:ext cx="2066760" cy="108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ost516"/>
          <p:cNvPicPr/>
          <p:nvPr/>
        </p:nvPicPr>
        <p:blipFill>
          <a:blip r:embed="rId2"/>
          <a:stretch/>
        </p:blipFill>
        <p:spPr>
          <a:xfrm>
            <a:off x="7391520" y="2971800"/>
            <a:ext cx="1104840" cy="23526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9"/>
          <p:cNvSpPr/>
          <p:nvPr/>
        </p:nvSpPr>
        <p:spPr>
          <a:xfrm>
            <a:off x="3124080" y="6095880"/>
            <a:ext cx="2210040" cy="609840"/>
          </a:xfrm>
          <a:prstGeom prst="cloudCallout">
            <a:avLst>
              <a:gd name="adj1" fmla="val -44611"/>
              <a:gd name="adj2" fmla="val 70050"/>
            </a:avLst>
          </a:prstGeom>
          <a:solidFill>
            <a:srgbClr val="99ffcc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7b6d47"/>
                </a:solidFill>
                <a:uFillTx/>
                <a:latin typeface="Arial"/>
                <a:hlinkClick r:id="rId3" action="ppaction://hlinksldjump"/>
              </a:rPr>
              <a:t>Пассивное курение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15" name="AutoShape 11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16" name="Oval 12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18" name="Oval 14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рак легких 2"/>
          <p:cNvPicPr/>
          <p:nvPr/>
        </p:nvPicPr>
        <p:blipFill>
          <a:blip r:embed="rId1"/>
          <a:srcRect l="13748" t="16669" r="0" b="0"/>
          <a:stretch/>
        </p:blipFill>
        <p:spPr>
          <a:xfrm>
            <a:off x="533520" y="1143000"/>
            <a:ext cx="4922640" cy="4191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рак легких"/>
          <p:cNvPicPr/>
          <p:nvPr/>
        </p:nvPicPr>
        <p:blipFill>
          <a:blip r:embed="rId2"/>
          <a:stretch/>
        </p:blipFill>
        <p:spPr>
          <a:xfrm>
            <a:off x="5943600" y="9907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ost536"/>
          <p:cNvPicPr/>
          <p:nvPr/>
        </p:nvPicPr>
        <p:blipFill>
          <a:blip r:embed="rId3"/>
          <a:stretch/>
        </p:blipFill>
        <p:spPr>
          <a:xfrm>
            <a:off x="6934320" y="4114800"/>
            <a:ext cx="12189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23" name="AutoShape 7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24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25" name="Oval 9">
              <a:hlinkClick r:id="rId5" action="ppaction://hlinksldjump"/>
            </p:cNvPr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227" name="Text Box 12"/>
          <p:cNvSpPr/>
          <p:nvPr/>
        </p:nvSpPr>
        <p:spPr>
          <a:xfrm>
            <a:off x="2209680" y="5486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Рак лёгкого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666880" cy="312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3"/>
          <p:cNvPicPr/>
          <p:nvPr/>
        </p:nvPicPr>
        <p:blipFill>
          <a:blip r:embed="rId2"/>
          <a:stretch/>
        </p:blipFill>
        <p:spPr>
          <a:xfrm>
            <a:off x="5181480" y="38088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4"/>
          <p:cNvPicPr/>
          <p:nvPr/>
        </p:nvPicPr>
        <p:blipFill>
          <a:blip r:embed="rId3"/>
          <a:stretch/>
        </p:blipFill>
        <p:spPr>
          <a:xfrm>
            <a:off x="966960" y="3809880"/>
            <a:ext cx="3017520" cy="2667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кл час 101"/>
          <p:cNvPicPr/>
          <p:nvPr/>
        </p:nvPicPr>
        <p:blipFill>
          <a:blip r:embed="rId4"/>
          <a:stretch/>
        </p:blipFill>
        <p:spPr>
          <a:xfrm>
            <a:off x="5257800" y="3886200"/>
            <a:ext cx="29718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33" name="AutoShape 7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34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35" name="Oval 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36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686800" cy="2590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В окружающую курильщика атмосферу попадает токсических компонентов во много раз больше, чем в организм самого курильщика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Основной поток табачного дыма образуют: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- 35% сгорающей сигареты,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- </a:t>
            </a:r>
            <a:r>
              <a:rPr b="1" lang="en-US" sz="1600" spc="-1" strike="noStrike" u="sng">
                <a:solidFill>
                  <a:srgbClr val="92d050"/>
                </a:solidFill>
                <a:uFillTx/>
                <a:latin typeface="Arial"/>
              </a:rPr>
              <a:t>50% уходят в окружающий воздух</a:t>
            </a: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92d050"/>
                </a:solidFill>
                <a:latin typeface="Arial"/>
              </a:rPr>
              <a:t>- от 5 до 15% компонентов сгоревшей сигареты остается на фильтре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Через 1,5 часа пребывания на рабочем месте в накуренном помещении у некурящих концентрация никотина в организме повышается в 8 раз, многократно увеличивается и содержание других токсичных компонентов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8" name="Picture 5" descr="ost514"/>
          <p:cNvPicPr/>
          <p:nvPr/>
        </p:nvPicPr>
        <p:blipFill>
          <a:blip r:embed="rId1"/>
          <a:stretch/>
        </p:blipFill>
        <p:spPr>
          <a:xfrm>
            <a:off x="8153280" y="380880"/>
            <a:ext cx="5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ost52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410080"/>
            <a:ext cx="155232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20037773"/>
          <p:cNvPicPr/>
          <p:nvPr/>
        </p:nvPicPr>
        <p:blipFill>
          <a:blip r:embed="rId4"/>
          <a:stretch/>
        </p:blipFill>
        <p:spPr>
          <a:xfrm>
            <a:off x="2743200" y="228600"/>
            <a:ext cx="2736720" cy="2247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1621"/>
          <p:cNvPicPr/>
          <p:nvPr/>
        </p:nvPicPr>
        <p:blipFill>
          <a:blip r:embed="rId5"/>
          <a:stretch/>
        </p:blipFill>
        <p:spPr>
          <a:xfrm>
            <a:off x="3200400" y="5486400"/>
            <a:ext cx="20574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289584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Алкоголь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Алкоголь - это этиловый спирт, присутствующий в большом или меньшем количестве в любом алкогольном напитке.  Относится к наркотикам, т. е. веществам вызывающим наркоз. Очень сильно влияние алкоголя на нервную систему, а именно на кору головного мозга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lvl="1" marL="17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Алкоголизм – это заболевание, развитие которого можно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lvl="1" marL="17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остановить, но излечить полностью невозможно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Один из признаков алкоголизма – неконтролируемое желание употреблять спиртные напитки.  Алкоголизм -прогрессирующая болезнь, результатом которой может быть полная деградация личности или смерть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Учёные доказали, что в 4 раза у подростков алкоголизм, как болезнь, возникает и развивается быстрее чем у взрослых. Привыкание у девушек происходит быстрее, чем у юношей, а вылечить намного сложнее (женский алкоголизм)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После употребления спиртных напитков через 10-15 минут алкоголь из желудка попадает в кровеносную систему. После этого он начинает циркулировать по всему организму. Воздействие алкоголя на центральную нервную систему вызывает состояние, которое принято называть опьянением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44" name="Picture 6" descr="1EER"/>
          <p:cNvPicPr/>
          <p:nvPr/>
        </p:nvPicPr>
        <p:blipFill>
          <a:blip r:embed="rId1"/>
          <a:stretch/>
        </p:blipFill>
        <p:spPr>
          <a:xfrm>
            <a:off x="6705720" y="4114800"/>
            <a:ext cx="2133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46" name="AutoShape 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48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49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pic>
        <p:nvPicPr>
          <p:cNvPr id="250" name="Picture 14" descr="a00"/>
          <p:cNvPicPr/>
          <p:nvPr/>
        </p:nvPicPr>
        <p:blipFill>
          <a:blip r:embed="rId3"/>
          <a:srcRect l="3581" t="2446" r="3581" b="4867"/>
          <a:stretch/>
        </p:blipFill>
        <p:spPr>
          <a:xfrm>
            <a:off x="6553080" y="380880"/>
            <a:ext cx="1981440" cy="2895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show_small"/>
          <p:cNvPicPr/>
          <p:nvPr/>
        </p:nvPicPr>
        <p:blipFill>
          <a:blip r:embed="rId1"/>
          <a:srcRect l="0" t="0" r="0" b="7879"/>
          <a:stretch/>
        </p:blipFill>
        <p:spPr>
          <a:xfrm>
            <a:off x="609480" y="274320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m130692-liver_cirrhosis-spl"/>
          <p:cNvPicPr/>
          <p:nvPr/>
        </p:nvPicPr>
        <p:blipFill>
          <a:blip r:embed="rId2"/>
          <a:stretch/>
        </p:blipFill>
        <p:spPr>
          <a:xfrm>
            <a:off x="6553080" y="45720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2895480" y="41911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04920" y="304920"/>
            <a:ext cx="586728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Печень берет на себя основной удар по обезвреживанию алкоголя – 90% вещества разрушается там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Способность печени справляться с алкоголем не беспредельна. Клетки её начинают разрушаться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У людей, систематически употребляющих алкоголь, развивается цирроз печени, что приводит к смерти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533520" y="4648320"/>
            <a:ext cx="1828800" cy="838080"/>
          </a:xfrm>
          <a:prstGeom prst="cloudCallout">
            <a:avLst>
              <a:gd name="adj1" fmla="val -40652"/>
              <a:gd name="adj2" fmla="val 55375"/>
            </a:avLst>
          </a:prstGeom>
          <a:solidFill>
            <a:srgbClr val="99ffcc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b6d47"/>
                </a:solidFill>
                <a:uFillTx/>
                <a:latin typeface="Arial"/>
                <a:hlinkClick r:id="rId3" action="ppaction://hlinksldjump"/>
              </a:rPr>
              <a:t>Курение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80880" y="5715000"/>
            <a:ext cx="2210040" cy="838080"/>
          </a:xfrm>
          <a:prstGeom prst="cloudCallout">
            <a:avLst>
              <a:gd name="adj1" fmla="val -42689"/>
              <a:gd name="adj2" fmla="val 46291"/>
            </a:avLst>
          </a:prstGeom>
          <a:solidFill>
            <a:srgbClr val="99ffcc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b6d47"/>
                </a:solidFill>
                <a:uFillTx/>
                <a:latin typeface="Arial"/>
                <a:hlinkClick r:id="rId4" action="ppaction://hlinksldjump"/>
              </a:rPr>
              <a:t>Наркомания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7" name="Прямоугольник с двумя скругленными противолежащими углами 13"/>
          <p:cNvSpPr/>
          <p:nvPr/>
        </p:nvSpPr>
        <p:spPr>
          <a:xfrm>
            <a:off x="3429000" y="3657600"/>
            <a:ext cx="5486400" cy="2743200"/>
          </a:xfrm>
          <a:prstGeom prst="pie">
            <a:avLst/>
          </a:prstGeom>
          <a:solidFill>
            <a:srgbClr val="006600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cc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Один из каждых четырех подростков участвуют в пьяных драках или скандалах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Один из каждых десяти задерживается в нетрезвом виде полицией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Спиртное очень быстро меняет настроение: веселье сменяется подавленностью или злостью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 Пьянство порождает насилие, вандализм, воровство и другие преступления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258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59" name="AutoShape 10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3200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ркомания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64" name="Picture 4" descr="1143413968_nar"/>
          <p:cNvPicPr/>
          <p:nvPr/>
        </p:nvPicPr>
        <p:blipFill>
          <a:blip r:embed="rId1"/>
          <a:stretch/>
        </p:blipFill>
        <p:spPr>
          <a:xfrm>
            <a:off x="6095880" y="380880"/>
            <a:ext cx="2667240" cy="17812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228600" y="685800"/>
            <a:ext cx="57913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 людей, принимающих наркотики могут быть провалы в памяти и галлюцинации через несколько месяцев или даже лет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яжелее всего наркотики сказываются на психике. Люди впадают в депрессию и даже думают о самоубийстве, потому что им становится все труднее получить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заряд бодр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от наркотиков.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66" name="Picture 6" descr="600x600,fs-GALERT-03,04,8180_JPG"/>
          <p:cNvPicPr/>
          <p:nvPr/>
        </p:nvPicPr>
        <p:blipFill>
          <a:blip r:embed="rId2"/>
          <a:srcRect l="0" t="37322" r="0" b="9042"/>
          <a:stretch/>
        </p:blipFill>
        <p:spPr>
          <a:xfrm>
            <a:off x="3200400" y="5257800"/>
            <a:ext cx="43815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68" name="AutoShape 8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69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70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71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272" name="AutoShape 12"/>
          <p:cNvSpPr/>
          <p:nvPr/>
        </p:nvSpPr>
        <p:spPr>
          <a:xfrm>
            <a:off x="457200" y="5715000"/>
            <a:ext cx="2057400" cy="685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ffcc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2500"/>
                </a:solidFill>
                <a:latin typeface="Arial"/>
              </a:rPr>
              <a:t>Это факт!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3" name="Прямоугольник 11"/>
          <p:cNvSpPr/>
          <p:nvPr/>
        </p:nvSpPr>
        <p:spPr>
          <a:xfrm>
            <a:off x="990720" y="2590920"/>
            <a:ext cx="80010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Многие наркоманы болеют вирусными инфекциями, вызывающими гепатит Б или СПИД. Оба эти заболевания практически не лечатся и приводят к смерти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Вирус гепатита Б разрушает печень.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СПИД разрушает иммунную систему человека и любое заболевание становится смертельным.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Гепатит Б и СПИД передаются через кровь. Люди, использующие один и тот же шприц для введения наркотиков, неизбежно заражают друг друга этими страшными болезнями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наркотиков, которые бы не вызывали зависимости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людей, для которых наркотики были бы не опасны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От наркомани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не возможно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полностью излечиться – человек остаётся зависимым от наркотиков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сю жизнь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75" name="Picture 5" descr="icon"/>
          <p:cNvPicPr/>
          <p:nvPr/>
        </p:nvPicPr>
        <p:blipFill>
          <a:blip r:embed="rId1"/>
          <a:srcRect l="2027" t="0" r="0" b="0"/>
          <a:stretch/>
        </p:blipFill>
        <p:spPr>
          <a:xfrm>
            <a:off x="457200" y="34290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drags"/>
          <p:cNvPicPr/>
          <p:nvPr/>
        </p:nvPicPr>
        <p:blipFill>
          <a:blip r:embed="rId2"/>
          <a:stretch/>
        </p:blipFill>
        <p:spPr>
          <a:xfrm>
            <a:off x="5029200" y="3049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10"/>
          <p:cNvPicPr/>
          <p:nvPr/>
        </p:nvPicPr>
        <p:blipFill>
          <a:blip r:embed="rId3"/>
          <a:stretch/>
        </p:blipFill>
        <p:spPr>
          <a:xfrm>
            <a:off x="5029200" y="3429000"/>
            <a:ext cx="38098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8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79" name="AutoShape 9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0" name="Oval 10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1" name="Oval 11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2" name="Oval 12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арихуана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еняет работу мозга. Страдает сердце, нарушается координация движений, работа легких и  сосудов, кружиться голова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Экстази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 и уменьшает теплоотдачу. Это может привести к смерти от перегревания и теплового удара. Легко проникает в клетки коры головного мозга, в результате возникает синдром органического поражения головного мозга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Винт (ментамфетамин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ет сужение сосудов и скачки давления. Учащается дыхание, сердцебиение. Регулярное употребление амфетаминов приводит к истощению. Смерть может наступить в результате кровоизлияния в мозг, остановки сердца или от теплового удара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рибы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ют галлюцинации. Возникают психозы, а при регулярном употреблении -  необратимое поражение психики, печени и желудка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84" name="Picture 4" descr="101568"/>
          <p:cNvPicPr/>
          <p:nvPr/>
        </p:nvPicPr>
        <p:blipFill>
          <a:blip r:embed="rId1"/>
          <a:srcRect l="0" t="20000" r="0" b="30000"/>
          <a:stretch/>
        </p:blipFill>
        <p:spPr>
          <a:xfrm>
            <a:off x="3200400" y="5562720"/>
            <a:ext cx="3048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86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8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89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кругленный прямоугольник 7"/>
          <p:cNvSpPr/>
          <p:nvPr/>
        </p:nvSpPr>
        <p:spPr>
          <a:xfrm>
            <a:off x="304920" y="457200"/>
            <a:ext cx="8610480" cy="5943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bcbc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ье – это состояние полного физического, психологического и социального благополучия, а не только отсутствие болезней или физических дефектов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из устава Всемирной организации здравоохранения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Здоровье – это, прежде всего процесс, сохранения и развития  психических и физиологических качеств, оптимальной работоспособности и социальной активности при максимальной продолжительности жизни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Здоровый образ жизни – это  процесс соблюдения человеком определённых норм, правил и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ограничений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в повседневной жизни, способствующих сохранения здоровья, оптимальному приспособлению организма к условиям среды, высокому уровню работоспособности в учебной и профессиональной деятельности.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12" name="AutoShape 6">
              <a:hlinkClick r:id="rId1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6858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еро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угнетает центральную нервную систему, замедляет сердцебиение, дыхание, снижает активность головного мозга, что вызывает пневмонию т туберкулез, нарушает обмен веществ.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Кока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, поэтому у всех кокаинщиков проблемы с сердцем. При длительном употреблении кокаина развивается так называемый кокаиновый психоз. Человеку постоянно страшно, кажется, что за ним кто-то следит. Кокс действует на нервную систему – возникают припадки, напоминающие эпилепсию, постоянно чешется кожа. При передозировке возможны кровоизлияния в мозг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ЛСД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– один из самых токсичных галлюциногенов. Он действует на мозг и нервную систему, что вызывает страх, панику, желание выйти в окно или прикончить окружающих. ЛСД разрушает нейроны мозга, и его длительный прием ведет к шизофрении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етадо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по своему действию схож с героином. С первого же приема сильно поражает мозг, вызывая необратимые нарушения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91" name="Picture 4" descr="868342_20060706164203"/>
          <p:cNvPicPr/>
          <p:nvPr/>
        </p:nvPicPr>
        <p:blipFill>
          <a:blip r:embed="rId1"/>
          <a:srcRect l="44904" t="0" r="18365" b="0"/>
          <a:stretch/>
        </p:blipFill>
        <p:spPr>
          <a:xfrm>
            <a:off x="7162920" y="1371600"/>
            <a:ext cx="1371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93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94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95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 всех всегда есть выбор. Используй его правильно!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98" name="Picture 5" descr="17209_prev_425"/>
          <p:cNvPicPr/>
          <p:nvPr/>
        </p:nvPicPr>
        <p:blipFill>
          <a:blip r:embed="rId1"/>
          <a:stretch/>
        </p:blipFill>
        <p:spPr>
          <a:xfrm>
            <a:off x="457200" y="393876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17"/>
          <p:cNvPicPr/>
          <p:nvPr/>
        </p:nvPicPr>
        <p:blipFill>
          <a:blip r:embed="rId2"/>
          <a:srcRect l="6066" t="0" r="6066" b="0"/>
          <a:stretch/>
        </p:blipFill>
        <p:spPr>
          <a:xfrm>
            <a:off x="5715000" y="990720"/>
            <a:ext cx="236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01" name="AutoShape 12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pic>
        <p:nvPicPr>
          <p:cNvPr id="305" name="Picture 16" descr="10"/>
          <p:cNvPicPr/>
          <p:nvPr/>
        </p:nvPicPr>
        <p:blipFill>
          <a:blip r:embed="rId3"/>
          <a:stretch/>
        </p:blipFill>
        <p:spPr>
          <a:xfrm>
            <a:off x="5486400" y="3962520"/>
            <a:ext cx="2895480" cy="2361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306" name="Line 17"/>
          <p:cNvSpPr/>
          <p:nvPr/>
        </p:nvSpPr>
        <p:spPr>
          <a:xfrm>
            <a:off x="4952880" y="3657600"/>
            <a:ext cx="3962520" cy="259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H="1">
            <a:off x="5028840" y="3657600"/>
            <a:ext cx="3809880" cy="281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5257800" y="1066680"/>
            <a:ext cx="3505320" cy="221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>
            <a:off x="5105160" y="914400"/>
            <a:ext cx="335268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310" name="Picture 21" descr="16_2836"/>
          <p:cNvPicPr/>
          <p:nvPr/>
        </p:nvPicPr>
        <p:blipFill>
          <a:blip r:embed="rId4"/>
          <a:stretch/>
        </p:blipFill>
        <p:spPr>
          <a:xfrm>
            <a:off x="533520" y="9144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Список использованной литературы: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68580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1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уянова Н.Ю. Я познаю мир: Дет. энцикл.: Медицина. М.: АСТ, 1995.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 Готовые экзаменационные ответы, физическая культура, 11 класс: Санкт-Петербург, «Тригон», 2003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.  Дереклеева Н.И. Родительские собрания. 5 - 11 классы. М.: ВАКО, 2004.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.  Ковалёва Н.В. Родительские собрания в 5 – 7 классах. Изд. 2-е. – Ростов н/Д: изд-во «Феникс», 2004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.  Кузнецов В.С., Колодницкий Г.А. Экзаменационные вопросы и ответы. Физическая культура. 9 и 11 выпускные классы: Учебное пособие. – М.: АСТ-ПРЕСС ШКОЛА, 2002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6.  Литвинов Е,Н,, Погадаев Г.И., Торочкова Т.Ю., Шитова Р.Я. Методика физического воспитания учащихся 1 – 4 классов: Пособие для учителя. – М.: Просвещение, 11997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7.  Лукьяненко В.П. Формирование здорового образа жизни (ЗОЖ): Физическая культура в школе № 2; 2002.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14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15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16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17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457200" y="685800"/>
            <a:ext cx="815328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ядова Н.В., Аносова Ю.А., Кожарская В,И., Ослон В.Н. Формирование здорового образа жизни и профилактика социально значимых заболеваний: Учебно-методическое пособие – Пермь: ПОИПКРО, 2002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9.  Мишин Б.И., Погадаев Г.И. Примерные билеты и ответы по физической культуре для подготовки к устной итоговой аттестации выпускников 9 классов общеобразовательных учреждений в 2002 – 2003 учебном году. – М.:Дрофа, 2003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0.  Перминова Г.В. Физическая культура 11 класс. Готовые ответы на экзаменационные вопросы. – М.: «Абрис Д», СПб.: «Виктория плюс», 2005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1.  Шевченко С.В., Денисова В,Г., Цыбулина Г.М., Зорина В.В. Классные часы (беседы, устный журнал, уроки мужества, ток-шоу). 1 – 11 классы.- Волгоград: Учитель, 2004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2.  Энциклопедия для детей. Том 18. Человек. Ч. 1, Происхождение и природа человека. Как работает тело. Искусство быть здоровым./ Глав. Ред. В.А. Володин. – М.: Аванта+, 2001.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азета «Аргументы и факты» № 22, 2007.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айты -  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fantasyflash.ru </a:t>
            </a: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vechnostb.narod.ru/Animashki.html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www.animashky.ru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20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22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23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324" name="Прямоугольник 7"/>
          <p:cNvSpPr/>
          <p:nvPr/>
        </p:nvSpPr>
        <p:spPr>
          <a:xfrm>
            <a:off x="4508640" y="594360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svetlanal.narod.ru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05960" y="380880"/>
            <a:ext cx="80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сновные составляющие современной концепции здоровья: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219320"/>
            <a:ext cx="52578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Физическа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– включает в себя уровень роста и развитие органов и систем организма, а также текущее состояние их функционирования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Психологическа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– состояние психической сферы, определяющееся мотивационными, эмоциональными, мыслительными и нравственно-духовными факторами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Поведенческая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– внешнее проявление состояния человека (адекватность поведения, умение общаться)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18" name="Picture 9" descr="$$Р$$Ы~1"/>
          <p:cNvPicPr/>
          <p:nvPr/>
        </p:nvPicPr>
        <p:blipFill>
          <a:blip r:embed="rId1"/>
          <a:stretch/>
        </p:blipFill>
        <p:spPr>
          <a:xfrm>
            <a:off x="6248520" y="5105520"/>
            <a:ext cx="15238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20" name="AutoShape 1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21" name="Oval 1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pic>
        <p:nvPicPr>
          <p:cNvPr id="124" name="Picture 23" descr="J0282737"/>
          <p:cNvPicPr/>
          <p:nvPr/>
        </p:nvPicPr>
        <p:blipFill>
          <a:blip r:embed="rId3"/>
          <a:stretch/>
        </p:blipFill>
        <p:spPr>
          <a:xfrm>
            <a:off x="5562720" y="3276720"/>
            <a:ext cx="1295280" cy="123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J0282753"/>
          <p:cNvPicPr/>
          <p:nvPr/>
        </p:nvPicPr>
        <p:blipFill>
          <a:blip r:embed="rId4"/>
          <a:stretch/>
        </p:blipFill>
        <p:spPr>
          <a:xfrm>
            <a:off x="7467480" y="3276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Home\Ольга\Рабочий стол\мама\двигательная нагрузка\2.gif"/>
          <p:cNvPicPr/>
          <p:nvPr/>
        </p:nvPicPr>
        <p:blipFill>
          <a:blip r:embed="rId5"/>
          <a:stretch/>
        </p:blipFill>
        <p:spPr>
          <a:xfrm>
            <a:off x="6095880" y="1066680"/>
            <a:ext cx="231156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73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4"/>
          <p:cNvSpPr/>
          <p:nvPr/>
        </p:nvSpPr>
        <p:spPr>
          <a:xfrm>
            <a:off x="228600" y="1143000"/>
            <a:ext cx="27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браз жизни – 50%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(30% из 50% ЗОЖ отводит правильно организованной  двигательной активности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402240" y="17524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Экология – 20%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869440" y="54100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дравоохранение – 10%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300680" y="54864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следственность – 20%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58400" y="640080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Данные министерства здравоохранения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922760" y="533520"/>
            <a:ext cx="49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акторы, определяющие здоровье: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7086240" y="2209680"/>
            <a:ext cx="30492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6934320" y="4572000"/>
            <a:ext cx="38088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276360" y="4724280"/>
            <a:ext cx="228600" cy="8384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2057400" y="2133720"/>
            <a:ext cx="137160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40" name="AutoShape 17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Organization Chart 6"/>
          <p:cNvGrpSpPr/>
          <p:nvPr/>
        </p:nvGrpSpPr>
        <p:grpSpPr>
          <a:xfrm>
            <a:off x="762120" y="304920"/>
            <a:ext cx="7847280" cy="5983920"/>
            <a:chOff x="762120" y="304920"/>
            <a:chExt cx="7847280" cy="5983920"/>
          </a:xfrm>
        </p:grpSpPr>
        <p:cxnSp>
          <p:nvCxnSpPr>
            <p:cNvPr id="145" name="_s2052"/>
            <p:cNvCxnSpPr>
              <a:stCxn id="146" idx="0"/>
              <a:endCxn id="147" idx="5"/>
            </p:cNvCxnSpPr>
            <p:nvPr/>
          </p:nvCxnSpPr>
          <p:spPr>
            <a:xfrm rot="10800000">
              <a:off x="4685040" y="1392120"/>
              <a:ext cx="561240" cy="435276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cxnSp>
          <p:nvCxnSpPr>
            <p:cNvPr id="148" name="_s2053"/>
            <p:cNvCxnSpPr>
              <a:stCxn id="149" idx="0"/>
              <a:endCxn id="147" idx="4"/>
            </p:cNvCxnSpPr>
            <p:nvPr/>
          </p:nvCxnSpPr>
          <p:spPr>
            <a:xfrm flipV="1">
              <a:off x="4124880" y="1392120"/>
              <a:ext cx="561240" cy="435276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cxnSp>
          <p:nvCxnSpPr>
            <p:cNvPr id="150" name="_s2054"/>
            <p:cNvCxnSpPr>
              <a:stCxn id="151" idx="0"/>
              <a:endCxn id="147" idx="3"/>
            </p:cNvCxnSpPr>
            <p:nvPr/>
          </p:nvCxnSpPr>
          <p:spPr>
            <a:xfrm rot="10800000">
              <a:off x="4685040" y="1392120"/>
              <a:ext cx="561240" cy="272052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cxnSp>
          <p:nvCxnSpPr>
            <p:cNvPr id="152" name="_s2055"/>
            <p:cNvCxnSpPr>
              <a:stCxn id="153" idx="0"/>
              <a:endCxn id="147" idx="2"/>
            </p:cNvCxnSpPr>
            <p:nvPr/>
          </p:nvCxnSpPr>
          <p:spPr>
            <a:xfrm flipV="1">
              <a:off x="4124880" y="1392120"/>
              <a:ext cx="561240" cy="272052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cxnSp>
          <p:nvCxnSpPr>
            <p:cNvPr id="154" name="_s2056"/>
            <p:cNvCxnSpPr>
              <a:stCxn id="155" idx="0"/>
              <a:endCxn id="147" idx="1"/>
            </p:cNvCxnSpPr>
            <p:nvPr/>
          </p:nvCxnSpPr>
          <p:spPr>
            <a:xfrm rot="10800000">
              <a:off x="4685040" y="1392840"/>
              <a:ext cx="561240" cy="108828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cxnSp>
          <p:nvCxnSpPr>
            <p:cNvPr id="156" name="_s2057"/>
            <p:cNvCxnSpPr>
              <a:stCxn id="157" idx="0"/>
              <a:endCxn id="147" idx="0"/>
            </p:cNvCxnSpPr>
            <p:nvPr/>
          </p:nvCxnSpPr>
          <p:spPr>
            <a:xfrm flipV="1">
              <a:off x="4124880" y="1392840"/>
              <a:ext cx="561240" cy="1088280"/>
            </a:xfrm>
            <a:prstGeom prst="bentConnector2">
              <a:avLst/>
            </a:prstGeom>
            <a:ln w="9360">
              <a:solidFill>
                <a:srgbClr val="4b2500"/>
              </a:solidFill>
              <a:miter/>
            </a:ln>
          </p:spPr>
        </p:cxnSp>
        <p:sp>
          <p:nvSpPr>
            <p:cNvPr id="147" name="_s2058"/>
            <p:cNvSpPr/>
            <p:nvPr/>
          </p:nvSpPr>
          <p:spPr>
            <a:xfrm>
              <a:off x="3004200" y="304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e3"/>
                </a:gs>
                <a:gs pos="50000">
                  <a:srgbClr val="f9f0d3"/>
                </a:gs>
                <a:gs pos="100000">
                  <a:srgbClr val="ffffe3"/>
                </a:gs>
              </a:gsLst>
              <a:lin ang="8100000"/>
            </a:gradFill>
            <a:ln w="3240">
              <a:solidFill>
                <a:srgbClr val="ffff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Условия </a:t>
              </a:r>
              <a:endParaRPr b="0" lang="en-US" sz="1700" spc="-1" strike="noStrike">
                <a:solidFill>
                  <a:srgbClr val="4b25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сохранения здоровья</a:t>
              </a:r>
              <a:endParaRPr b="0" lang="en-US" sz="17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57" name="_s2059"/>
            <p:cNvSpPr/>
            <p:nvPr/>
          </p:nvSpPr>
          <p:spPr>
            <a:xfrm>
              <a:off x="76212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Gill Sans Ultra Bold"/>
                  <a:hlinkClick r:id="rId2" action="ppaction://hlinksldjump"/>
                </a:rPr>
                <a:t>Желание быть здоровым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55" name="_s2060"/>
            <p:cNvSpPr/>
            <p:nvPr/>
          </p:nvSpPr>
          <p:spPr>
            <a:xfrm>
              <a:off x="524628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Arial"/>
                  <a:hlinkClick r:id="rId3" action="ppaction://hlinksldjump"/>
                </a:rPr>
                <a:t>Двигательная активность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53" name="_s2061"/>
            <p:cNvSpPr/>
            <p:nvPr/>
          </p:nvSpPr>
          <p:spPr>
            <a:xfrm>
              <a:off x="76212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Gill Sans Ultra Bold"/>
                  <a:hlinkClick r:id="rId4" action="ppaction://hlinksldjump"/>
                </a:rPr>
                <a:t>Рациональное питание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51" name="_s2062"/>
            <p:cNvSpPr/>
            <p:nvPr/>
          </p:nvSpPr>
          <p:spPr>
            <a:xfrm>
              <a:off x="524628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Arial"/>
                  <a:hlinkClick r:id="rId5" action="ppaction://hlinksldjump"/>
                </a:rPr>
                <a:t>Личная гигиена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76212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Arial"/>
                  <a:hlinkClick r:id="rId6" action="ppaction://hlinksldjump"/>
                </a:rPr>
                <a:t>Закаливание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>
              <a:off x="524628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fbfa7"/>
                </a:gs>
                <a:gs pos="50000">
                  <a:srgbClr val="f9f0d3"/>
                </a:gs>
                <a:gs pos="100000">
                  <a:srgbClr val="bfbfa7"/>
                </a:gs>
              </a:gsLst>
              <a:lin ang="8100000"/>
            </a:gradFill>
            <a:ln w="3240">
              <a:solidFill>
                <a:srgbClr val="bfbf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Arial"/>
                  <a:hlinkClick r:id="rId7" action="ppaction://hlinksldjump"/>
                </a:rPr>
                <a:t>Отказ 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7b6d47"/>
                  </a:solidFill>
                  <a:uFillTx/>
                  <a:latin typeface="Arial"/>
                  <a:hlinkClick r:id="rId8" action="ppaction://hlinksldjump"/>
                </a:rPr>
                <a:t>от вредных привычек</a:t>
              </a:r>
              <a:endParaRPr b="0" lang="en-US" sz="19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58" name="Text Box 21"/>
          <p:cNvSpPr/>
          <p:nvPr/>
        </p:nvSpPr>
        <p:spPr>
          <a:xfrm>
            <a:off x="463680" y="6400800"/>
            <a:ext cx="2322000" cy="246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7b6d47"/>
                </a:solidFill>
                <a:uFillTx/>
                <a:latin typeface="Arial"/>
                <a:hlinkClick r:id="rId9" action="ppaction://hlinksldjump"/>
              </a:rPr>
              <a:t>Список использованной литературы</a:t>
            </a:r>
            <a:endParaRPr b="0" lang="en-US" sz="10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59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60" name="AutoShape 17">
              <a:hlinkClick r:id="rId10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63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52280" y="380880"/>
            <a:ext cx="502920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2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оспринимайте своё тело как здоровое, даже если вас беспокоит какой-либо недуг (элемент самовнушения)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О сохранении вашего здоровья, кроме вас самих, никто не позаботится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Необходимо помнить, что для успеха надо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в поте лица трудиться всю жизнь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Чтобы быть здоровым, нужны собственные усилия постоянные и значительные, и заменить их нельзя ничем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Жить в согласии с природой,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с обществом (доброта и милосердие)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Культура труда, отдыха, сна, питания, физической и духовной жизни – всё это в целом и есть основа кодекса здоровья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Сознательное отношение к собственному здоровью должно стать нормой поведения, главной отличительной чертой культурной, цивилизованной личности.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65" name="Picture 4" descr="new18"/>
          <p:cNvPicPr/>
          <p:nvPr/>
        </p:nvPicPr>
        <p:blipFill>
          <a:blip r:embed="rId1"/>
          <a:srcRect l="1890" t="0" r="5663" b="1958"/>
          <a:stretch/>
        </p:blipFill>
        <p:spPr>
          <a:xfrm>
            <a:off x="5181480" y="1066680"/>
            <a:ext cx="3733920" cy="38102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67" name="AutoShape 6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4343400" cy="32004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Двигательная активность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– главный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и решающий фактор сохранения и укрепления здоровья, ни чем не заменимое универсальное средство профилактики недугов и замедления процессов старения организма. 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Установлено, что если потребность в движении не удовлетворяется, то наступает гиподинамия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Рекомендуемая норма двигательной активности для школьников 12-14 часов 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в неделю.</a:t>
            </a:r>
            <a:endParaRPr b="0" lang="en-US" sz="1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72" name="Picture 11" descr="46"/>
          <p:cNvPicPr/>
          <p:nvPr/>
        </p:nvPicPr>
        <p:blipFill>
          <a:blip r:embed="rId1"/>
          <a:srcRect l="14493" t="0" r="0" b="0"/>
          <a:stretch/>
        </p:blipFill>
        <p:spPr>
          <a:xfrm>
            <a:off x="380880" y="365760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sheip_09_b"/>
          <p:cNvPicPr/>
          <p:nvPr/>
        </p:nvPicPr>
        <p:blipFill>
          <a:blip r:embed="rId2"/>
          <a:stretch/>
        </p:blipFill>
        <p:spPr>
          <a:xfrm>
            <a:off x="4952880" y="3657600"/>
            <a:ext cx="383400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DSC01228"/>
          <p:cNvPicPr/>
          <p:nvPr/>
        </p:nvPicPr>
        <p:blipFill>
          <a:blip r:embed="rId3"/>
          <a:srcRect l="14118" t="15150" r="11764" b="0"/>
          <a:stretch/>
        </p:blipFill>
        <p:spPr>
          <a:xfrm>
            <a:off x="4952880" y="152280"/>
            <a:ext cx="3886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22"/>
          <p:cNvGrpSpPr/>
          <p:nvPr/>
        </p:nvGrpSpPr>
        <p:grpSpPr>
          <a:xfrm>
            <a:off x="8077320" y="6248520"/>
            <a:ext cx="704880" cy="380880"/>
            <a:chOff x="8077320" y="6248520"/>
            <a:chExt cx="704880" cy="380880"/>
          </a:xfrm>
        </p:grpSpPr>
        <p:sp>
          <p:nvSpPr>
            <p:cNvPr id="176" name="AutoShape 23">
              <a:hlinkClick r:id="rId4" action="ppaction://hlinksldjump"/>
            </p:cNvPr>
            <p:cNvSpPr/>
            <p:nvPr/>
          </p:nvSpPr>
          <p:spPr>
            <a:xfrm>
              <a:off x="8246880" y="6326280"/>
              <a:ext cx="363240" cy="2332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8077320" y="6551640"/>
              <a:ext cx="2088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Oval 25"/>
            <p:cNvSpPr/>
            <p:nvPr/>
          </p:nvSpPr>
          <p:spPr>
            <a:xfrm>
              <a:off x="8325360" y="6248520"/>
              <a:ext cx="208800" cy="77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9" name="Oval 26"/>
            <p:cNvSpPr/>
            <p:nvPr/>
          </p:nvSpPr>
          <p:spPr>
            <a:xfrm>
              <a:off x="8573400" y="6551640"/>
              <a:ext cx="208800" cy="77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logo"/>
          <p:cNvPicPr/>
          <p:nvPr/>
        </p:nvPicPr>
        <p:blipFill>
          <a:blip r:embed="rId1"/>
          <a:srcRect l="2039" t="2968" r="2289" b="2226"/>
          <a:stretch/>
        </p:blipFill>
        <p:spPr>
          <a:xfrm>
            <a:off x="2666880" y="6094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609480" y="3657600"/>
            <a:ext cx="7772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82" name="Picture 8" descr="J0223774"/>
          <p:cNvPicPr/>
          <p:nvPr/>
        </p:nvPicPr>
        <p:blipFill>
          <a:blip r:embed="rId2"/>
          <a:stretch/>
        </p:blipFill>
        <p:spPr>
          <a:xfrm>
            <a:off x="838080" y="1371600"/>
            <a:ext cx="1244880" cy="901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J0223780"/>
          <p:cNvPicPr/>
          <p:nvPr/>
        </p:nvPicPr>
        <p:blipFill>
          <a:blip r:embed="rId3"/>
          <a:stretch/>
        </p:blipFill>
        <p:spPr>
          <a:xfrm>
            <a:off x="7162920" y="1523880"/>
            <a:ext cx="1244520" cy="9399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85" name="AutoShape 12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89" name="Прямоугольник 11"/>
          <p:cNvSpPr/>
          <p:nvPr/>
        </p:nvSpPr>
        <p:spPr>
          <a:xfrm>
            <a:off x="380880" y="32767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Правильное питание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подразумевает меню, богато овощами, фруктами,  съедобными травами.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ища должна быть питательной и разнообразной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Ежедневное употребление первых блюд, овощных салатов, соков, каш способствует хорошей работе органов пищеварения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Режим питания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регулярность приёма пищи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не менее 3 – 4 раз в день, желательно в одни и те же часы);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гигиена рук, гигиена приёма пищи;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пища при приёме – не очень холодная, но и не очень горячая и мн. др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AN088"/>
          <p:cNvPicPr/>
          <p:nvPr/>
        </p:nvPicPr>
        <p:blipFill>
          <a:blip r:embed="rId1"/>
          <a:stretch/>
        </p:blipFill>
        <p:spPr>
          <a:xfrm>
            <a:off x="4876920" y="3962520"/>
            <a:ext cx="2057400" cy="14000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2819520" y="990720"/>
            <a:ext cx="5867280" cy="23151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</a:rPr>
              <a:t>Гигие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– наука о влиянии различных факторов окружающей среды на здоровье человека, его работоспособность, продолжительность жизни.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en-US" sz="1600" spc="-1" strike="noStrike" u="sng">
                <a:solidFill>
                  <a:srgbClr val="660033"/>
                </a:solidFill>
                <a:uFillTx/>
                <a:latin typeface="Arial"/>
              </a:rPr>
              <a:t>Личная гигиена</a:t>
            </a: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 – это соблюдение основных принципов и правил данной науки каждым человеком в процессе его индивидуальной жизни (режим дня, гигиена питания, одежды, жилья, полезный досуг, сочетание труда и отдыха и т.д.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92" name="Picture 8" descr="4028"/>
          <p:cNvPicPr/>
          <p:nvPr/>
        </p:nvPicPr>
        <p:blipFill>
          <a:blip r:embed="rId2"/>
          <a:stretch/>
        </p:blipFill>
        <p:spPr>
          <a:xfrm>
            <a:off x="685800" y="914400"/>
            <a:ext cx="1714680" cy="24192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194" name="AutoShape 10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95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97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pic>
        <p:nvPicPr>
          <p:cNvPr id="198" name="Picture 14" descr="AEROBICS"/>
          <p:cNvPicPr/>
          <p:nvPr/>
        </p:nvPicPr>
        <p:blipFill>
          <a:blip r:embed="rId4"/>
          <a:stretch/>
        </p:blipFill>
        <p:spPr>
          <a:xfrm>
            <a:off x="2286000" y="4038480"/>
            <a:ext cx="1392120" cy="136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hool5</dc:creator>
  <dc:description/>
  <dc:language>en-US</dc:language>
  <cp:lastModifiedBy>Библиотека</cp:lastModifiedBy>
  <dcterms:modified xsi:type="dcterms:W3CDTF">2013-02-27T07:47:1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